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5"/>
          </p:nvPr>
        </p:nvSpPr>
        <p:spPr>
          <a:xfrm>
            <a:off x="3828600" y="-360"/>
            <a:ext cx="29307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76080" y="472392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6"/>
          </p:nvPr>
        </p:nvSpPr>
        <p:spPr>
          <a:xfrm>
            <a:off x="0" y="9442080"/>
            <a:ext cx="2930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7"/>
          </p:nvPr>
        </p:nvSpPr>
        <p:spPr>
          <a:xfrm>
            <a:off x="3828600" y="9442080"/>
            <a:ext cx="29307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152-153A-4F2C-A9FF-EBE8A04583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6080" y="472392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28960" y="9442440"/>
            <a:ext cx="29307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371-171B-4819-BD1E-2EA6FC0397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6080" y="472392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28960" y="9442440"/>
            <a:ext cx="29307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DCCF-29DE-4FD0-A0EE-78ABF83CE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64A-4801-4FB9-AD21-A55D4986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673-B69F-43E6-9E33-AE1040B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A4CC9-BC49-4B24-9D96-FDD9E5CE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B77E1-B942-4C6D-9181-7281062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4B914-BED5-41EE-9238-295D2B08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49E29-86EF-4E37-87CC-3051BA7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9F77-1611-492C-AF0B-1A309C2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94570-6F86-41FF-971A-F5FDB58E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C136-0951-4AA9-B761-5CACA3C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C16C-DFDC-4CFA-B927-07701A1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098F9-5DF0-40F7-A2C0-63631688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D1639-1E86-4E30-825C-F551DB5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10C-98F5-4523-86F2-65EAE7F9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AE00-733F-4D1D-81DC-DB195641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989D4-9E3A-4EF9-A4B9-710FF60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79DEA-7E0F-4BED-84B2-3122E994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BFF1F-0CF9-4249-A709-86443159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32F87-8B4C-4D24-ACE7-5B2AAF3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203D5-F654-4024-87EC-C8DC41F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FCCA0-0592-4C2C-BE60-C0C927B7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AD75F-9FA5-4083-8449-04C2781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F8A0-D6F1-49FB-A423-129917B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7EEB0-4991-409A-B67A-FA3CD95E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492-5C14-4D4D-BB72-9045C44F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9869C-A001-4F55-AEC9-B525B7D0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3CFE-2DF3-470D-9925-F9BA3AED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6533C-6E9D-4DD8-AD7B-21EF368F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47D43-46A9-402C-A8E0-B3F23D2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BFB58-C157-449B-9A55-BF7F76D4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25344-6A6A-4A32-B11A-F0A82E6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BED3D-82A3-43EA-99C5-D0D5164A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D0D46-CE12-47A0-AC6E-C5B584D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35AE2-40C2-4287-A307-C254072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5D245-FFD2-4291-9E03-52485421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9686-6D64-40E5-95FF-5B701480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81DD7-AE15-4DC0-BB4E-4A011F7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C644-269E-46E8-AFB8-293D8ED6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E8F88-C541-437C-8D83-F0C4DB6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C6749-B519-454E-97A8-ECD8631A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3B226-378B-4648-8F01-78B8B735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5E1C4-5B3D-4939-907C-3526F820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79F2A-F5C9-491A-A9BB-CCBFB4AA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5F0C1-C785-4768-BECD-AE6804ED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31A2A-FFE4-4F74-84BC-1606E99A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9CBCB-EAD9-420E-BBAD-78D664F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F8F-4DB4-4BC1-89F5-F5D2EB4D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4567C-0CCD-46BB-8291-3D04307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C4CF5-8963-4490-ACE1-0F9B10B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30169-1702-421E-AD72-DD05163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31925-86FF-43A4-9773-F7526CAE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A0989-ED78-42EF-AA67-4DF82A61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F1E21-86FE-42A2-990E-51D3D472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F238F-5123-4FC6-BBA6-4DAC8982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ECF9D-A5B6-43A7-9FA2-B95956BB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C3ADB-22E6-4D6E-AA6B-0ABD37F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F6032-E138-479B-BF7B-7125A25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DDD-AEB4-41C8-A1C9-66C9120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92A60-3B58-444B-AFB4-DD77DB8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6A373-289C-444A-901A-9A14B27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8F573-A4CF-42B3-B933-66D1C75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BA8BD-6943-42BC-9A5F-3AD33D2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D9084-EB8D-462D-954F-F64A469D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7C1B4-0134-4961-88E3-9ECD9E4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8D494-5532-446F-973C-9C565972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D6949-97AE-4237-B86F-6F7326DA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2FF54-3226-4738-B460-92C0D2B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71FB1-D49D-4197-BD4C-0858E9A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CF5D-0908-4ABB-BFF5-9DF67477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DF20F-199C-4759-9112-A5BD346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30B1D-3DCA-42E8-B902-4F3710B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E3A10-E174-4E2A-B3EB-06E0C38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CA752-E493-44B1-8A07-5AFBE7E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5CE7D-EFE6-47E6-A2F1-BC66DCC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E5AF9-7BFE-446B-8DE1-9921376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E29D8-381E-4D19-81CB-6ECE3F4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09198-29E8-4655-964A-33E5A1D1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61DE4-6DB0-4E5B-A466-3B8C84FD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9C736-7380-47BA-BBF4-8F11BA9C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7944-BEA2-4331-9012-183E3A1A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F1B45-CAD0-4753-A613-B405523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35A14-A830-43AD-A8CB-76951E9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7BCE7-D32C-4193-8BAE-1206F8FF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1855B-FDCC-4966-A25C-CE3C7735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AF742-FF24-46CF-BFD3-258869D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D21FD-A066-43BB-8227-27B9692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9A3ED-4993-468A-913D-0E3A652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BB47A-E7CD-4407-B071-C70FDB2D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46946-6C0F-4BAE-875B-0B9CD93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4301B-EEAC-451F-8428-ABD1A4FE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408A-7E18-4946-916B-1C3CC0F7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FC8FB-C6A3-40A6-BC39-FA748FBA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9AADD-6039-4BDE-A40E-8886DC1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406C7-72A2-4007-A503-07D584FE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81EE0-B9A2-45C4-A0B8-1F5BA4D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B2EEA-E681-4366-88D6-785F2FBC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B78F3-1418-4B09-B5AC-97EE1770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F940C-A250-4CE7-BDE6-3F104A7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8F422-04FC-4E51-B291-27E2DAE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32B4D-0BC6-47F6-B116-FA5C6756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CA66C-2348-4BBF-AC17-51C253A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999-6445-4DE1-A748-FD6BF7F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72144-9ED8-4E09-984B-40070F59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916B7-3581-4499-B926-659BAC86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4F798-9222-4073-9BE6-60D0443E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AFEA4-B11F-4714-812D-BB0C5DFD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F1A99-ABCE-46C8-B98E-6AAA36CD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BC1E7-B85B-4EB9-B925-ECE6B36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C8501-3741-4A82-BE86-3F102D3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07C62-F4C1-4DF4-8507-EE7F0C23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3EB46-137D-4A99-8D63-62A5D0C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0F470-4561-4052-BD64-D0F2AEC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0A0-5CB0-4FA4-91C4-47B2EE6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D112-9AB9-471C-9DF9-9E41A448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3D96E-09EF-446D-887E-5ED0C9A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C321E-7DFC-44C9-A35B-F640D52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3B2B4-5279-409D-B401-C6BC6B8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EB6235-7E17-4D70-B9EF-F9B5A41B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97B2C-32C2-4636-88E5-CC1790B2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28347-AD22-45CA-8ABB-3DBB4707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1AE99-8FB9-4153-8B18-3351E538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F135F-F3D7-4BBB-8DC1-2584D5E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A8639-049E-4715-BA59-497B33D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AAC0C-150C-45A5-9E0C-97E66C1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3612-B6C6-42CA-BE73-5CBB36D1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A5212-0C07-4689-8768-D799CFA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B0C2D-EFB3-436A-A3E0-26F660A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C2B85-100B-42F9-8B21-FB72230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44126A-F675-410E-B36F-4A0DC36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AE36E-46D5-4A37-A367-03A0B074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8D636-929A-43B8-8013-A3AA6DBD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AFA68-16C7-4ABB-BDB2-5F669B45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FE9B-2CA3-4040-BDA9-84BDADE5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8394-A595-4A19-AB3E-E2BEE257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AF0F-8423-4CF5-ABAA-697B167C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3E53-B6D2-447D-8DCF-D9815CE2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94CF-B7BA-4915-8A53-8E052107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3EDF-10BB-4423-AB44-6A2BA7B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0BA7-1F1C-46E5-A75F-234D109A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DFB6-F3FA-4BF8-ACEF-CC809E70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969-7189-49EC-AEB8-898CD7BA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2667-0525-4D72-98DB-D9D733E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69CB-263A-4BF9-B3FE-A83EC4A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0E46F-6E32-45A0-9F62-54520F6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F082-B31B-4C5F-B39C-DBBA6AF9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6048-9602-45D9-B4D9-49B2FD3B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0F6F-4A1C-4E7A-AD3E-79462E01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19D1-9D4F-4B32-8004-24362483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0C30-AC4F-461B-980E-32F6C1C9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51C2-10EC-4145-9CBE-8F01C619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C82F-1005-4E5F-84EE-394CB52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7E0-6465-4628-B541-A8B6A2C1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10F4-ACAB-469E-8D3F-55A5C01E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D728-8CAA-468D-8F0D-830F31A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ADCC-DCE0-4CA5-96BD-ECF08EE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3311-65B1-495A-9860-46FA9B5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2FD1-36BF-4F0E-97DE-6B1B30E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2027-21FD-4406-845A-C5DE15E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7CD1-539C-4EBE-946F-99EE6477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3B7D-4760-490A-B784-69FD0AE1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DB96-5998-4B7F-8085-8CAB0DC3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360B-8EF3-43FD-A041-5ACE027B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352-716B-42BB-BACA-9A6912EB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4EBC-6F47-426F-84FD-20CE98DA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D352-AB0A-4D7F-B12B-93D0F6F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E38E-EEB1-4D0D-8F14-113D7FEA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E076-21D2-4DF1-AF11-4C98743F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A329-EA55-45C2-8DA0-93D66D6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626B-EB9D-48AE-BB43-B6366F5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65CD-7683-4DBB-B0D0-4AF8093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FE81-97A8-43A9-B048-BF5FE2D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EB12-54E8-4A82-9A87-AE16E23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3806F-2D42-4E28-9366-6C64F0D5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239-FEA7-4044-9A0B-96D06C65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4AAF-678B-4C7F-8861-AA5CB53E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73A9-7612-4330-8655-7655B3E1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3092E-EDAA-42B9-A5C8-2CC31913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4261-221F-461A-996D-A7FB5375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12FF-AA3A-4E7D-BC03-3429D71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88140-3903-40CF-BB07-8181AB8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272A4-0C9E-41B9-890A-46E13C0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5E83-D4DE-44D8-A7C8-CBDB5F4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124CB-6354-4FFF-8AE3-B52D46D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4553-B3EC-49F7-8DA0-87EF95E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EBB-68AC-40FD-9D0A-7AC5CBAA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EC66-F8DA-4F73-B109-A82F4E52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8849-2C1F-4DEC-BC9E-B8819E59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C5DC-9346-45AF-B38A-7332CF9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5CF1-4247-4668-BF8A-C1867290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315D-1B3E-4244-AE31-5079BB1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E838-AA6B-41BA-8EA3-7A1CA46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FE32-9B6A-4705-A784-FA9DF78A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D8C82-103E-4325-9991-60579F7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ECBB1-1841-4369-81AC-AD5F5599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AF89-FF13-4E0D-AA93-CEB3DD8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C2D-25D8-48A2-BF91-4D12C71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7CFB5-10F3-4946-9443-0DEB8FC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76CA-321C-46B5-84A5-AD866857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3100-0002-40FF-9883-40D8B89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91FC-E4EB-4CC9-9955-970FA8E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A22D-01D9-4DE4-BC1F-66445A26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19FA-C2CA-449A-A84D-B46BD52F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353C-5E7B-480C-BD7B-931CF07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2728-661D-42CF-88E2-F6DF3218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AD6A-2243-40EF-9AEF-BB55001C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C7E0-5DD3-4C5D-9DF9-61B843B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1E6-DBA5-4409-8DF9-362D107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77724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19BD-1F6E-4072-A37D-BC59924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BA4A7-FF1A-42A4-8DAE-5F814A0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CD2C-A95A-4725-9281-70C1F07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042C1-3EDA-4437-90D1-B43E7B9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47840"/>
            <a:ext cx="77724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D155-5CAB-4CC0-AF47-97813CB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39880" y="21416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439880" y="4047840"/>
            <a:ext cx="37926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A851-47E6-48D0-AB75-B43CC909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8520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712840" y="21416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08520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712840" y="4047840"/>
            <a:ext cx="250236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09DC-9F77-4C66-B572-794FA1B5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70D22-3217-4723-861B-510FB2EA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BBF3E-8BD5-46CD-9BEC-0CF5F63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10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A2251-4509-4BFA-AB78-C6E51F7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BD32-16F4-491E-9977-2FE9CE654D0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2EB-F699-4307-A738-A33F0D89B6F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816-1892-422C-BD84-CF5068B94A0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250-53E0-45A1-9481-2DE6AD29699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239-9F72-4E3E-893F-81209E9787F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C9E-4880-4FE0-8E85-014A30165C7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7"/>
          <p:cNvSpPr/>
          <p:nvPr/>
        </p:nvSpPr>
        <p:spPr>
          <a:xfrm>
            <a:off x="422280" y="71748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736040" y="275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632-F1FE-45DD-BFD4-CCA2907C63E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5EC-BD42-4722-9C26-0CBE4A3232C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5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5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BFD-0F60-4306-A6F7-956C41EBB35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6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5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5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630-6083-4000-BB36-E19A85D40EE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elestia-R1---OverlayTitleSD.png"/>
          <p:cNvPicPr/>
          <p:nvPr/>
        </p:nvPicPr>
        <p:blipFill>
          <a:blip r:embed="rId3"/>
          <a:stretch/>
        </p:blipFill>
        <p:spPr>
          <a:xfrm>
            <a:off x="0" y="0"/>
            <a:ext cx="739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7514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742840" y="5870520"/>
            <a:ext cx="39322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406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583-802B-4A4C-A76F-25E763A2A35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049-4161-47C5-AD17-AE3D114F94B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781-9DDE-46DE-833B-81BB1B82FEE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947-46EE-4547-9726-FA7FFE775310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868-71C1-4B2F-8DB7-756F515EEBA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522-F436-4D45-B040-406105790149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42A2-C40F-4782-B602-FAA26B35B6E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Celestia-R1---OverlayContentSD.png"/>
          <p:cNvPicPr/>
          <p:nvPr/>
        </p:nvPicPr>
        <p:blipFill>
          <a:blip r:embed="rId3"/>
          <a:stretch/>
        </p:blipFill>
        <p:spPr>
          <a:xfrm>
            <a:off x="1440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14164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00160" indent="-1713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522840" y="5870520"/>
            <a:ext cx="1212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57200" y="5870520"/>
            <a:ext cx="598968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Слай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812000" y="5870520"/>
            <a:ext cx="417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926-78CB-4978-87DA-C3898C8AB92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3" descr=""/>
          <p:cNvPicPr/>
          <p:nvPr/>
        </p:nvPicPr>
        <p:blipFill>
          <a:blip r:embed="rId1"/>
          <a:stretch/>
        </p:blipFill>
        <p:spPr>
          <a:xfrm>
            <a:off x="1268280" y="1255680"/>
            <a:ext cx="8356680" cy="38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Скругленный прямоугольник 3"/>
          <p:cNvSpPr/>
          <p:nvPr/>
        </p:nvSpPr>
        <p:spPr>
          <a:xfrm>
            <a:off x="473040" y="692280"/>
            <a:ext cx="8497800" cy="22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rnd" w="19080">
            <a:solidFill>
              <a:srgbClr val="7d2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ХОДЫ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+ 50 889,2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ыс.рубле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том числе за счет безвозмездных поступлений из бюджетов других уровней, имеющих целевое назначение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+ 49 848,2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ыс.рублей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Скругленный прямоугольник 4"/>
          <p:cNvSpPr/>
          <p:nvPr/>
        </p:nvSpPr>
        <p:spPr>
          <a:xfrm>
            <a:off x="468360" y="3716280"/>
            <a:ext cx="8496360" cy="2233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rnd" w="19080">
            <a:solidFill>
              <a:srgbClr val="7d2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СХОДЫ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+ 50 889,2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108000" y="808200"/>
          <a:ext cx="8928000" cy="5965560"/>
        </p:xfrm>
        <a:graphic>
          <a:graphicData uri="http://schemas.openxmlformats.org/drawingml/2006/table">
            <a:tbl>
              <a:tblPr/>
              <a:tblGrid>
                <a:gridCol w="7704000"/>
                <a:gridCol w="1224000"/>
              </a:tblGrid>
              <a:tr h="728640"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я по поправка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измен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39816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ДО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5 19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429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 прогнозируемый объем налоговых и неналоговых доходов, в связи с уточненным поступлением доходов от уплаты акцизов на автомобильный бензин, дизельное топливо и моторные масла, подлежащих зачислению в бюджет рай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0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571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в части поступления дотации на поддержку мер по обеспечению сбалансированности бюджета, имеющую целевое значение: на уплату налога на имущество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6 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18296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в части безвозмездных поступлений из бюджета УР (дотации, субвенции, субсидии, иные МБТ) на сумму  увеличения  объема межбюджетных трансфертов, прогнозируемых к поступлению в бюджет района в 2018 году из бюджета УР в соответствии с нормативно-правовыми документами Удмуртской Республики о предоставлении указанных средств, (за период с 25 октября по 12 декабря 2018 год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3 00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4612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доходную часть бюджета района на 8 тыс. руб. в части безвозмездных поступлений от юридических лиц на проведение спортивных мероприят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047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50 88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7932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ДОХОДОВ ПОСЛЕ ВНЕСЕНИЯ ПОПРАВ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6 0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  <p:grpSp>
        <p:nvGrpSpPr>
          <p:cNvPr id="770" name="Прямоугольник 4"/>
          <p:cNvGrpSpPr/>
          <p:nvPr/>
        </p:nvGrpSpPr>
        <p:grpSpPr>
          <a:xfrm>
            <a:off x="7832880" y="487440"/>
            <a:ext cx="1218960" cy="323640"/>
            <a:chOff x="7832880" y="487440"/>
            <a:chExt cx="1218960" cy="323640"/>
          </a:xfrm>
        </p:grpSpPr>
        <p:pic>
          <p:nvPicPr>
            <p:cNvPr id="77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32880" y="487440"/>
              <a:ext cx="121896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846920" y="504720"/>
              <a:ext cx="1189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Rectangle 2"/>
          <p:cNvSpPr/>
          <p:nvPr/>
        </p:nvSpPr>
        <p:spPr>
          <a:xfrm>
            <a:off x="538200" y="-33480"/>
            <a:ext cx="8067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Предложения по поправкам к бюджету 2018 го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34920" y="549360"/>
          <a:ext cx="9144000" cy="5837040"/>
        </p:xfrm>
        <a:graphic>
          <a:graphicData uri="http://schemas.openxmlformats.org/drawingml/2006/table">
            <a:tbl>
              <a:tblPr/>
              <a:tblGrid>
                <a:gridCol w="7740720"/>
                <a:gridCol w="1403280"/>
              </a:tblGrid>
              <a:tr h="56016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НАЯ ЧАСТЬ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РАСХОДОВ ДО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9 208,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5644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честь в  объеме бюджетных ассигнований, расходы на уплату налога на имущество  организаций, осуществляемые за счет  поступления дотации на поддержку мер по обеспечению  сбалансированности бюджета, имеющую целе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6 8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0857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честь в  объеме бюджетных ассигнований, расходы бюджета, осуществляемые за счет  безвозмездных поступлений, имеющих целевое назначение, полученных сверх объемов, утвержденных решением о бюджете и направленных на расходы в ходе исполнения бюджета без внесения изменений в решение о бюджете в соответствии с п.3 статьи 217 БК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23 008,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571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направить на расходы, связанные с ремонтом и содержанием автомобильных дорог местного значения и искусственных сооружений на них,  за счет уточненного поступления доходов от уплаты акцизов на автомобильный бензин, дизельное топливо и моторные масла, подлежащих зачислению в бюджет рай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03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80496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м увеличить  расходы Управлению культуры, спорта и молодежи, в связи  с  безвозмездным поступлением от юридических лиц на проведение  спортивных меро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2380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мма поправ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 50 88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50256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РАСХОДОВ ПОСЛЕ ВНЕСЕНИЯ ПОПРА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0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0" y="907920"/>
          <a:ext cx="9144000" cy="3816360"/>
        </p:xfrm>
        <a:graphic>
          <a:graphicData uri="http://schemas.openxmlformats.org/drawingml/2006/table">
            <a:tbl>
              <a:tblPr/>
              <a:tblGrid>
                <a:gridCol w="8016840"/>
                <a:gridCol w="1127160"/>
              </a:tblGrid>
              <a:tr h="1254240">
                <a:tc gridSpan="2"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ФИНАНСИРОВАНИЯ ДЕФИЦИТА БЮДЖЕ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812e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>
                  <a:txBody>
                    <a:bodyPr lIns="3600" rIns="3600" tIns="36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АЛАНС ("-" ДЕФИЦИТ; "+" ПРОФИЦИ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 0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671400">
                <a:tc>
                  <a:txBody>
                    <a:bodyPr lIns="3600" rIns="3600" tIns="3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(собственные остатки на счете бюджета по состоянию на 01.01.201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268280">
                <a:tc>
                  <a:txBody>
                    <a:bodyPr lIns="3600" rIns="360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ение остатков на счете бюджета (целевые остатки на счете бюджета по состоянию на 01.01.201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  <a:tc>
                  <a:txBody>
                    <a:bodyPr lIns="3600" rIns="3600" tIns="3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ac3ec1"/>
                      </a:solidFill>
                    </a:lnL>
                    <a:lnR w="5760">
                      <a:solidFill>
                        <a:srgbClr val="ac3ec1"/>
                      </a:solidFill>
                    </a:lnR>
                    <a:lnT w="5760">
                      <a:solidFill>
                        <a:srgbClr val="ac3ec1"/>
                      </a:solidFill>
                    </a:lnT>
                    <a:lnB w="5760">
                      <a:solidFill>
                        <a:srgbClr val="ac3ec1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6" name=""/>
          <p:cNvGraphicFramePr/>
          <p:nvPr/>
        </p:nvGraphicFramePr>
        <p:xfrm>
          <a:off x="179280" y="1125360"/>
          <a:ext cx="8785440" cy="4707000"/>
        </p:xfrm>
        <a:graphic>
          <a:graphicData uri="http://schemas.openxmlformats.org/drawingml/2006/table">
            <a:tbl>
              <a:tblPr/>
              <a:tblGrid>
                <a:gridCol w="5091120"/>
                <a:gridCol w="3694320"/>
              </a:tblGrid>
              <a:tr h="158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МУНИЦИПАЛЬНОГО ОБРАЗОВАНИЯ «МОЖГИНСКИЙ РАЙОН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6 088,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65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за счет за счет поступления безвозмездных поступле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8 25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  <a:tr h="1027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 099,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ee9"/>
                    </a:solidFill>
                  </a:tcPr>
                </a:tc>
              </a:tr>
              <a:tr h="79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(-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c3ec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 010,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8f4"/>
                    </a:solidFill>
                  </a:tcPr>
                </a:tc>
              </a:tr>
            </a:tbl>
          </a:graphicData>
        </a:graphic>
      </p:graphicFrame>
      <p:sp>
        <p:nvSpPr>
          <p:cNvPr id="777" name="Rectangle 2"/>
          <p:cNvSpPr/>
          <p:nvPr/>
        </p:nvSpPr>
        <p:spPr>
          <a:xfrm>
            <a:off x="565200" y="144360"/>
            <a:ext cx="80661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Уточненные параметры бюджета на 2018 го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Прямоугольник 7"/>
          <p:cNvGrpSpPr/>
          <p:nvPr/>
        </p:nvGrpSpPr>
        <p:grpSpPr>
          <a:xfrm>
            <a:off x="7759800" y="841320"/>
            <a:ext cx="1218960" cy="322200"/>
            <a:chOff x="7759800" y="841320"/>
            <a:chExt cx="1218960" cy="322200"/>
          </a:xfrm>
        </p:grpSpPr>
        <p:pic>
          <p:nvPicPr>
            <p:cNvPr id="77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7759800" y="841320"/>
              <a:ext cx="1218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7775640" y="855720"/>
              <a:ext cx="11890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Calibri"/>
                </a:rPr>
                <a:t>Тыс.руб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06:47:21Z</dcterms:created>
  <dc:creator>User</dc:creator>
  <dc:description/>
  <dc:language>en-US</dc:language>
  <cp:lastModifiedBy>Жвакина</cp:lastModifiedBy>
  <cp:lastPrinted>2018-05-21T08:17:13Z</cp:lastPrinted>
  <dcterms:modified xsi:type="dcterms:W3CDTF">2018-12-05T05:21:01Z</dcterms:modified>
  <cp:revision>685</cp:revision>
  <dc:subject/>
  <dc:title>Слайд 1</dc:title>
</cp:coreProperties>
</file>